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2DFB-B82C-4635-851D-722888F1B3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25A8-3CDF-4BD6-BD8B-2A51F2A7B3A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4160-05CA-44BE-A38A-EFA28D69FC0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FF98-82B1-40C1-93B1-DBF4F557446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420D-29D2-4CE2-AAD9-59BE45B868F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BE70-BC75-467E-B8B1-D019A0700DC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0C55-AAEC-4861-A104-A887CBDB0E0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47AF-5229-4689-8702-BEE3F6A5CE1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8D47-6BE3-41AA-9315-FE68756FE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0796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641680"/>
            <a:ext cx="617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507640"/>
            <a:ext cx="617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45EB-3750-4A98-8C7D-00EB2FC7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0796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64168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64168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50764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50764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8AC2-D8F3-4EEB-BD00-0C1397DD6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0796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64168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64168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64168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50764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50764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50764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47F4-89D6-4516-9014-324555A20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0796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64168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E7AD-C72F-4EB4-958C-95D91E72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0796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64168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3B1C-8673-42B6-ABB2-AADBCE0D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0796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641680"/>
            <a:ext cx="3011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641680"/>
            <a:ext cx="3011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50E6-4C06-40AE-9616-EC237E03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0796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B573-CFF6-494D-8502-17F09C0B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07960"/>
            <a:ext cx="61722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22A8-E073-4D04-87AD-16777A62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0796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64168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641680"/>
            <a:ext cx="3011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50764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9372-5D35-4BD0-942D-E99C5970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0796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641680"/>
            <a:ext cx="3011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64168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50764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33F5-FB31-4450-B4DC-7AA928CD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0796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64168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64168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507640"/>
            <a:ext cx="617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96A5-BDD5-4A81-A9BD-FE6AF27B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0796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64168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3993-F7D6-48B0-90A5-206362BF0A9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zuzn.ru/wp-content/uploads/2009/01/huge03616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aitklassa.ucoz.ru/_pu/0/06784953.gif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6"/>
          <p:cNvSpPr/>
          <p:nvPr/>
        </p:nvSpPr>
        <p:spPr>
          <a:xfrm>
            <a:off x="491508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507960"/>
            <a:ext cx="61722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Для чего мы едим?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3371760" cy="739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рганизм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еловека для поддержания здоровья требует разнообразные питательные вещества. Существует 6 основных групп питательных веществ: </a:t>
            </a:r>
            <a:r>
              <a:rPr b="0" lang="ru-RU" sz="2400" spc="-1" strike="noStrike">
                <a:solidFill>
                  <a:srgbClr val="ff0066"/>
                </a:solidFill>
                <a:latin typeface="Tahoma"/>
              </a:rPr>
              <a:t>белки, жиры, углеводы, витамины, минералы и клетчатка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Различные виды пищи богаты разными питательными веществами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1028" descr="человеки"/>
          <p:cNvPicPr/>
          <p:nvPr/>
        </p:nvPicPr>
        <p:blipFill>
          <a:blip r:embed="rId1"/>
          <a:srcRect l="0" t="0" r="0" b="3173"/>
          <a:stretch/>
        </p:blipFill>
        <p:spPr>
          <a:xfrm>
            <a:off x="3124080" y="2286000"/>
            <a:ext cx="350532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омер слайда 6"/>
          <p:cNvSpPr/>
          <p:nvPr/>
        </p:nvSpPr>
        <p:spPr>
          <a:xfrm>
            <a:off x="491508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7667-9D5F-4183-80BD-A5AA92F59B9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81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Режим питан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2720" y="1727280"/>
            <a:ext cx="30286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ревние говорили: «Завтрак съешь сам, обед раздели с другом, а ужин отдай врагу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день необходимо питаться 3-4 ра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рывы между едой составляют 4-5 часов, в ночное время перерывы удлиняется до 10 час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057200" y="2336400"/>
            <a:ext cx="2457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13" descr="Картинка 3 из 2577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57560" y="2336760"/>
            <a:ext cx="2457720" cy="579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5" descr="Картинка 2 из 2577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507960"/>
            <a:ext cx="4419720" cy="7620120"/>
          </a:xfrm>
          <a:prstGeom prst="rect">
            <a:avLst/>
          </a:prstGeom>
          <a:ln w="0">
            <a:noFill/>
          </a:ln>
        </p:spPr>
      </p:pic>
      <p:sp>
        <p:nvSpPr>
          <p:cNvPr id="87" name="Номер слайда 6"/>
          <p:cNvSpPr/>
          <p:nvPr/>
        </p:nvSpPr>
        <p:spPr>
          <a:xfrm>
            <a:off x="491508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8358-E125-48AE-8243-F00893030B7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507960"/>
            <a:ext cx="320040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1933"/>
                </a:solidFill>
                <a:latin typeface="Tahoma"/>
              </a:rPr>
              <a:t>Наведение порядка в режиме питания в силах любого человека и тот кто хочет, может преодолеть вредную привычку неправильно питатьс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Приятного Вам         аппетита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Будьте здоровы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86240" y="2641680"/>
            <a:ext cx="30290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4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50760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Белки (12%)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1523880"/>
            <a:ext cx="6172200" cy="701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Белки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– главный строительный материал, они частично идут на энерготраты организма, стимулируют умственную деятельность. Самыми ценными для ребенка являются рыбный и молочный белок, который лучше всего усваивается детским организмом. На втором месте по качеству - мясной белок, на третьем – белок растительного происхождения. В рационе ребенка школьного возраста обязательно должны присутствовать следующие продукты: хлеб, каша, горох, мясо, рыба, творог, молоко, сыр, яйц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ставляют 1/5 часть организма челове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обходимы для роста, развития, обмена веществ в организм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ahoma"/>
              </a:rPr>
              <a:t>- Недостаток приведет к заболеваниям: малокровие, задержка роста, инфек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ahoma"/>
              </a:rPr>
              <a:t>- Избыток приводит к перегрузке печени, почек, гнилостные процессы в кишечник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5"/>
          <p:cNvSpPr/>
          <p:nvPr/>
        </p:nvSpPr>
        <p:spPr>
          <a:xfrm>
            <a:off x="491508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2A8D-63DE-49F3-BDDA-14F9B8E223C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40644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Жиры (30-35%)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720" y="1625760"/>
            <a:ext cx="6172200" cy="65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Жиры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главный энергетический материал. Усваиваясь, они дают больше калорий, чем белки и углеводы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обходимые жиры содержатся не только в привычных для нас «жирных» продуктах – масле, сметане, сале и т.д. Мясо, молоко и рыба – источники скрытых жиров. Животные жиры усваиваются хуже растительных и не содержат важные для организма жирные кислоты и жирорастворимые витамины. Ежедневно ребенок школьного возраста должен получат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сливочное масло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растительное масло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сметан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ahoma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0066"/>
                </a:solidFill>
                <a:latin typeface="Tahoma"/>
              </a:rPr>
              <a:t>Улучшают вкус пищи, вызывают чувство сыт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ahoma"/>
              </a:rPr>
              <a:t>- Избыток способствует развитию атеросклероза, болезни сердца, ожирени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9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2" dur="indefinite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6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3" dur="indefinite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5"/>
          <p:cNvSpPr/>
          <p:nvPr/>
        </p:nvSpPr>
        <p:spPr>
          <a:xfrm>
            <a:off x="491508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F8E4-EDE7-40D2-A7A9-3784AE4C0FB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720" y="507960"/>
            <a:ext cx="61722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Углеводы (50-60%)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2720" y="1320840"/>
            <a:ext cx="6172200" cy="75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глеводы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 также являются поставщиком энергии. Их способность откладываться в виде жировой ткани требует от человека разумных ограничений. Они повышают продуктивность умственного труда, стимулируя работу нервной систем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обходимые продукты в меню школьник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хлеб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круп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картофель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мёд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сухофрукт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саха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ahoma"/>
              </a:rPr>
              <a:t>- Избыток приводит к нарушению обмена веществ, ожирени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6"/>
          <p:cNvSpPr/>
          <p:nvPr/>
        </p:nvSpPr>
        <p:spPr>
          <a:xfrm>
            <a:off x="491508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9E85-DA69-44FA-9D55-113A5D91623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2720" y="50796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итамин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641680"/>
            <a:ext cx="3028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обходимы организму челове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ходятся в: овощах, фруктах ягодах, зеле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5" descr="1210166470"/>
          <p:cNvPicPr/>
          <p:nvPr/>
        </p:nvPicPr>
        <p:blipFill>
          <a:blip r:embed="rId1"/>
          <a:stretch/>
        </p:blipFill>
        <p:spPr>
          <a:xfrm>
            <a:off x="4000680" y="2743200"/>
            <a:ext cx="2381040" cy="2776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acf5e4d907a4x"/>
          <p:cNvPicPr/>
          <p:nvPr/>
        </p:nvPicPr>
        <p:blipFill>
          <a:blip r:embed="rId2"/>
          <a:stretch/>
        </p:blipFill>
        <p:spPr>
          <a:xfrm>
            <a:off x="4000680" y="5892840"/>
            <a:ext cx="2342880" cy="26416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7"/>
          <p:cNvSpPr/>
          <p:nvPr/>
        </p:nvSpPr>
        <p:spPr>
          <a:xfrm>
            <a:off x="457200" y="5791320"/>
            <a:ext cx="303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Недостаток приводит к авитаминоз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6"/>
          <p:cNvSpPr/>
          <p:nvPr/>
        </p:nvSpPr>
        <p:spPr>
          <a:xfrm>
            <a:off x="491508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C961-547B-4BF9-B111-1530653BC58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50796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Минеральные веществ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641680"/>
            <a:ext cx="3028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Являются незаменимой составной частью пищ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Недостаток или избыток приводит к нарушению обмена вещест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1028" descr="фрукты"/>
          <p:cNvPicPr/>
          <p:nvPr/>
        </p:nvPicPr>
        <p:blipFill>
          <a:blip r:embed="rId1"/>
          <a:stretch/>
        </p:blipFill>
        <p:spPr>
          <a:xfrm>
            <a:off x="3429000" y="1930320"/>
            <a:ext cx="3208320" cy="670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омер слайда 5"/>
          <p:cNvSpPr/>
          <p:nvPr/>
        </p:nvSpPr>
        <p:spPr>
          <a:xfrm>
            <a:off x="491508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2880-0CF3-4AD2-AC05-CF33C3784E1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2720" y="1422000"/>
            <a:ext cx="6514920" cy="751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лавное правило рационального питания для школьников: энергетическая ценность потребляемой пищи не должна превышать энерготраты организма. В суточный рацион должны входить пищевые вещества в сбалансированном виде. Это обеспечивается оптимальным соотношением белков, жиров, углеводов и незаменимых компонентов, таких как аминокислоты и витамин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 рекомендуется давать ребенку много сладостей и сладких напитков, особенно в промежутках между едой — полезнее выпить полстакана яблочного или морковного сока. Важно соблюдать питьевой режим. Суточная потребность школьников в воде — 1,5 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язательное условие рационального питания детей — разнообразие рациона за счет как использования разных продуктов, так и способов их приготовления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2000" spc="-1" strike="noStrike">
                <a:solidFill>
                  <a:srgbClr val="ff0066"/>
                </a:solidFill>
                <a:latin typeface="Tahoma"/>
              </a:rPr>
              <a:t>Нужно выработать регулятор сознательного самоограничения, который будет основываться на знаниях о полезности продукт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342720" y="507960"/>
            <a:ext cx="61722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Рациональное питание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Номер слайда 5"/>
          <p:cNvSpPr/>
          <p:nvPr/>
        </p:nvSpPr>
        <p:spPr>
          <a:xfrm>
            <a:off x="491508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D19A-04A4-425A-BEC3-F1BFE6DEECC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507960"/>
            <a:ext cx="61722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Заповеди правильного питан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6229440" cy="75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предели совместимость блюд, учитывая трёхразовое - четырехразовое пит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нообразь свою пищу с учётом того, чтобы она включала 5-10% углеводов, 20 % белков и 30% жир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икогда не ешь больше, чем нужно – вылезай из-за стола чуть раньше того, как почувствуешь сытос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Готовьте пищу так, чтобы свести до минимума количество используемого жира (овощи – на пару вместо обжаривания их в масле; курица – на гриле, вместо сковороды; используй для жарки сковороды с тефлоновым покрытием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ыпивай ежедневно от 6-ти до 8-ми стаканов жидкости, предпочтительнее – во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Ешь не торопясь, тщательно пережёвывая пищу, и во время еды не отвлекайся ни на что другое – ни на телевизор, ни на чтение; старайся есть только сидя за стол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упи для себя хорошую книгу, подробно рассказывающую, как и зачем правильно питатьс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ff0066"/>
                </a:solidFill>
                <a:latin typeface="Tahoma"/>
              </a:rPr>
              <a:t>Помни, что питание, как и физические упражнения, - одно из величайших удовольствий в жизни, так питайся же правильно, чтобы это радовало тебя и доставляло истинное наслажден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5"/>
          <p:cNvSpPr/>
          <p:nvPr/>
        </p:nvSpPr>
        <p:spPr>
          <a:xfrm>
            <a:off x="491508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8406-DC35-4C6E-9E2B-0C394E35711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Избегай этих продуктов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3943080" cy="59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финированный саха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лая му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нсерванты, стабилизаторы вкуса, подсластите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ясо животных и птицы, в пищу которых добавлялись гормо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вощей и фруктов, выращенных с помощью химических удобр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" name="Picture 5" descr="22080704small"/>
          <p:cNvPicPr/>
          <p:nvPr/>
        </p:nvPicPr>
        <p:blipFill>
          <a:blip r:embed="rId1"/>
          <a:stretch/>
        </p:blipFill>
        <p:spPr>
          <a:xfrm>
            <a:off x="4172040" y="1828800"/>
            <a:ext cx="2457360" cy="3251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Безымянный"/>
          <p:cNvPicPr/>
          <p:nvPr/>
        </p:nvPicPr>
        <p:blipFill>
          <a:blip r:embed="rId2"/>
          <a:stretch/>
        </p:blipFill>
        <p:spPr>
          <a:xfrm>
            <a:off x="4172040" y="5283360"/>
            <a:ext cx="2400120" cy="26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1</cp:lastModifiedBy>
  <dcterms:modified xsi:type="dcterms:W3CDTF">2013-11-06T05:30:53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